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DB7A9-5424-4B02-A681-C2F9446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045E2-53F7-43DE-A142-F15C4BF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2ADDEB-188B-4226-91E7-CAA36705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47596-E44E-47EC-B36B-3783C207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2975F9-BDD5-4DC3-A155-A8687C09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FDED95-EEB1-4366-86B9-070FDAAC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87259B-89C9-47DA-983A-F44CE8CD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D82E6F-62E3-45C0-A287-43D022AD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880167-43D1-4AFB-86E2-932B5273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C7696-2B93-4B44-B48B-7EBE23D7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DD0512-5EF4-4BB8-BC47-C0138507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DCB3A-D8CB-410F-A50D-6E9ED65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75BF2E-DFB4-4F6D-88A9-DB5334AF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CFA18E-6B97-4F35-962C-73D75786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A28EE-E039-4AD9-95F8-A024751B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F89B27-DAA3-47D5-BF6C-90129605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ECF3B-7F68-4019-B977-70AB447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2F80DB-ACDB-4DB2-BCA1-1AB79DA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C68B6-63CE-4564-B73A-D9E703CF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833999-9806-4FA8-B423-9BF49227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96F029-BF1F-4B3D-9B71-14709006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B32F5E-6887-4DE7-A3CF-1EEB7E74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F6BCB1-3DDE-4BD8-B8FD-3ABCE06D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BB3E4C-CEA9-4C1A-8A34-B6C18322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81CA77-24A7-4D59-83DE-C763B0F2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92E83D-F110-478D-8287-6EB04A60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D5EE69-E580-45E1-ACD5-C251FCA2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464FF5-0E6B-4B66-B88F-7D2A283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8ED68C-1656-45D4-BB7E-806BC9E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730BAC-DABB-48AE-8CE1-523472C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CE692D-C95A-4AC9-88B7-D601760D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E776E9-2C36-47F7-A3DB-CAB04CD8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3955FF-5015-43F9-BB44-F4EAC0F1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5CE03D-DDB5-4784-8006-380E584F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FBB92C-F923-43E5-AF95-71452F72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759537-6B1E-4145-8C22-325CC1A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744960-98DE-4207-ADFD-293ABC9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501CC6-6396-4885-9CC9-E6F2A34B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7636C2-8D64-4A8D-9504-70E18BF6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DC24A6-3529-4186-B1C0-0AA81115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98D7D3-3807-4FCB-B4D8-A9A8236D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0C0C72-7511-4BBD-8455-DB87982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D46D2A-FDBF-4FD6-A28B-321328E8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02933F-A40D-4F30-9DB4-82D935A6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E7452F-F345-4833-AE79-85FA7A8E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E2D61-B02B-450E-BBB1-9F0C0C2B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8086F-861E-4EC5-AF44-7F6F101F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FB82E-C5BF-45A9-BAF7-22682876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8C086-0366-4559-9B7B-82A58FB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5902A-7EA8-4267-8C5F-C4B2D62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6D923-7FE6-4A59-B311-8204B4F8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A646-15FF-4A00-8F78-24466D7F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D86D5-86E0-4D44-91B3-1B38892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2BDF2-C46D-4D98-80CB-9C47B9BB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A3C0E-8FD2-4A06-9AD6-F23BD4DB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F775F4-7C98-481E-BAC3-30F2BF9C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1831B-16D9-482F-AF16-0217FA92B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5205DD-1767-4639-B917-1D58A25B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3BFBA-2493-4404-B6FC-878243B2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8D9CC-B623-4A18-B80F-85880A1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7B7CD-F095-48D5-971D-B86501E4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4CCE1-C88D-4E9D-9788-93A5325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85C2B-E201-4E58-8503-CA3F190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293A4-7A8C-4208-A0C7-3F40EF4E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BB821-2235-431B-A627-162D4AB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37F1B-0F7E-40CE-A83A-7487A84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55B6E2-4B2F-4DA6-89FC-DE19BC5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5BC25-5DFA-4789-A9B8-BF73D52C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5012B-12A3-489A-B50A-A26DDC7B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2BE73-A3A4-4B1F-9D99-67141670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9588AA-5BEC-466B-9D31-099693F4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0F8C07-431D-4F78-B983-140E3413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2DDAF-BD80-4359-81FD-897F9D8E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FB2DA-B418-41B6-9966-C391EF4B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858C00-EF7D-4112-AD5A-B2D0E9D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2CA0D-F86F-4210-9FCC-30AADB7A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52589-C05B-4822-AD41-1187FA4E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21475-9BA3-4C5C-B195-B26750D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0CF55-5919-4601-91AE-A6540868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AB3729-5396-49CF-84E6-91DC4AEC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80710-1283-48B7-9059-991217E1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8E5607-C2CA-403C-81B6-C42ADF27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EB340-8A24-4FF0-9532-92372B3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1AE77-08D1-4DA0-BCB3-E6DE2D3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829F2-9C31-47E6-8B32-8A2EE7D7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0E773-4386-435B-B706-1DE68A00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0AE7CD-2643-41F0-8DE7-B1D1E083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8D13A-0AC8-47F7-AF11-6966478C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44D8E-E4FC-4587-8323-3C566D0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98DF87-7EA8-4340-BC73-53B60056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E5117-44CA-4626-929F-DBD13DDC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92CCD-67F2-40DF-8840-E231D2E1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87492-DB37-45D8-9FBD-23510A0B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CD7769-48FB-4097-8E24-AA462EB3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75B11-077D-41E9-86C9-4EBBA7A7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70F0D-5539-4BF3-97C5-9198E42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D9029-A74B-47DE-A6AB-DE540A0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DBC9F-9B44-4CF4-ACA6-8D9A0F1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3A154-A2B6-4631-88F9-C5372DDE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4F1A6-C946-4422-900C-1476746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3078A-0139-4AA3-92DC-ED9F46AA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7BAFC-84F3-4C99-BD28-1FE6EBB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A5B3F-E85B-4616-AEA0-DB7181D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1FB05-BC72-4907-AD41-BCD40C1A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C13C5-A69A-4C7D-836B-8AA0869A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57357-1E97-486E-B5F6-992F627E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1783F-73F5-41F1-B772-88E6313A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13E7C-A7ED-48BB-9347-D4E9825D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D9781-62CF-4A63-918E-E6C71413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23BF9-1652-42A8-84A1-11B10019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1EF17-F795-4024-B9FC-197BF922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39941-843E-4F55-B979-833837BA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C5344-7259-47B2-B049-232C900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6A25B-9DBF-4BB7-96C4-F286618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2DA08-33E1-4837-A765-5C8A8BFA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5124E8-AF3B-44C7-B09F-90548843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A4C9B-181E-4AF8-A78F-61D40370E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7EB091-03BF-4E12-AAC9-D83285CD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6A2D14-58C8-4FF0-84E8-BAD080B6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6D6E0-3457-4E9A-8874-CAD02C41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0FA4-3DB6-4E63-A8AF-E56FF593FB4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858-D7C1-4F48-A23B-179D41E5250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8B7-A3F6-4539-8F11-9E17BDA7F86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BC20-EF50-4B0F-99D4-1E8A31CAFF5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EEC1-4222-4423-B307-CD6F7C25B11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35A-1B38-432B-9416-0CFAFB6A653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853F-741C-4799-BFFA-B59E940F868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72D9-AB7A-40F1-B89C-D1ED1ED6ABD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6637-E024-4E12-AC7B-6A00D4C151F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C429-B742-45DD-A2EF-D62AFF98437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1B4C-4399-4FA1-A454-4F696446AB4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FF2-A976-4A8A-97E6-A8D540F82EB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0A07-859E-4C62-94F1-2EC07562EB26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6E91-14BE-471C-883B-910ADCA5401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1579-AAA3-41E2-89D0-2BB3D2D5C66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4F6-6298-4941-AFA9-2FDD3D143FA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535E-CA3F-4C91-BC94-94C7DEFA741A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3EE9-37AA-4B27-ADEF-44DA0D01AAF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EF75-85BB-496A-8D47-47471EBEA63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78EB-0EB4-48AA-835A-32C73275109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tsliven2@abv.bg" TargetMode="External"/><Relationship Id="rId2" Type="http://schemas.openxmlformats.org/officeDocument/2006/relationships/hyperlink" Target="http://www.nsi.bg/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nsi.bg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200" y="1636560"/>
            <a:ext cx="7869240" cy="17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3400" spc="-1" strike="noStrike">
                <a:solidFill>
                  <a:srgbClr val="000000"/>
                </a:solidFill>
                <a:latin typeface="Yeseva One"/>
                <a:ea typeface="Arial"/>
              </a:rPr>
              <a:t>СТАТИСТИКА В КЛАСНАТА СТАЯ</a:t>
            </a:r>
            <a:endParaRPr b="0" lang="en-US" sz="3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1143000" y="4043520"/>
            <a:ext cx="6858000" cy="13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Калина Казанджи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Директор 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Териториално статистическо бюро - Югоизт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69440" y="1846440"/>
            <a:ext cx="533556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Церемонията по награждаването се проведе на 7 декември 2022 г. от 14:00 часа в зала „Георги Данчев“ на Областна администрация – Слив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лучихме подкрепа от проф. д-р Михаил Кончев и г-жа Антоанета Илкова, изразяваща се в отделено време, лична ангажираност и участие в церемонията по награждаването на участници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овината е разпространена от пресслужбата на Областна администрация – Сливен и видно от медиамониторинга на НСИ - 9 медии са я публикува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1000" y="125892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5964120" y="1979640"/>
            <a:ext cx="270216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1108080"/>
            <a:ext cx="78868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6" name="Content Placeholder 4" descr=""/>
          <p:cNvPicPr/>
          <p:nvPr/>
        </p:nvPicPr>
        <p:blipFill>
          <a:blip r:embed="rId1"/>
          <a:stretch/>
        </p:blipFill>
        <p:spPr>
          <a:xfrm>
            <a:off x="125280" y="2273400"/>
            <a:ext cx="4362480" cy="33112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5"/>
          <p:cNvSpPr/>
          <p:nvPr/>
        </p:nvSpPr>
        <p:spPr>
          <a:xfrm>
            <a:off x="4370400" y="1690560"/>
            <a:ext cx="45212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лучихме предложение от директора на ПГИ, г-н Добрев да продължим и в бъдеще инициативата и да я разпространим сред училищата в област Слив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Зам. областния управител на област Сливен, г-н Андонов също изказа подкрепа за бъдещи периодични срещи с ученици, с акцент практическото приложение на статистически дан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Отзвукът за статистическото състезание бе положителен и с голям позитивен заряд за повишаване на статистическата грамотност и култура на младите хора, което е стратегическа цел - приоритет за НС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502920" y="1618920"/>
            <a:ext cx="55134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ез 2023 г. ТСБ – Югоизток организира и проведе за втори път регионално статистическо състезание за инфографика сред учениците в град Сливе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В състезанието се включиха 39 ученици от три училища: ПГИ „Проф. д-р Димитър Табаков“, ППМГ „Добри Чинтулов“, СУ „П. К. Яворов“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Според възрастовите категор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я А (от X, XI и XII клас) - 27 учениц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я Б (от VIII и IX клас) - 12 учениц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Инфографиките, които учениците подготвиха с помощта на ментори - икономисти и IT специалисти, бяха изработени въз основа на данни от Преброяването на населението и жилищния фонд в Република България през 2011 и през 2021 годи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1000" y="110808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0" name="Picture 54" descr=""/>
          <p:cNvPicPr/>
          <p:nvPr/>
        </p:nvPicPr>
        <p:blipFill>
          <a:blip r:embed="rId1"/>
          <a:stretch/>
        </p:blipFill>
        <p:spPr>
          <a:xfrm>
            <a:off x="6102360" y="2273400"/>
            <a:ext cx="24955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4023720" y="318960"/>
            <a:ext cx="109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тегория 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1141200"/>
            <a:ext cx="7886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28560" y="1690560"/>
            <a:ext cx="5151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Оценяването на работата на учениците беше извършено от жури с председател Антон Георгиев, началник на отдел „Статистически изследвания - Сливен“. В състава на журито бяха още: Ива Тарагошева, старши експерт по професионално образование и обучение към РУО – Сливен и Сребрина Ганушева - главен експерт в отдел „Статистически изследвания - Сливен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Чавдар Божурски, и.д. областен управител на област Сливен връчи медали за призовите места на участниците от двете категории.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Всички участници получиха грамоти за участието си в състезание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42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6265800" y="1920960"/>
            <a:ext cx="22496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1141200"/>
            <a:ext cx="788688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7" name="Content Placeholder 6" descr=""/>
          <p:cNvPicPr/>
          <p:nvPr/>
        </p:nvPicPr>
        <p:blipFill>
          <a:blip r:embed="rId1"/>
          <a:stretch/>
        </p:blipFill>
        <p:spPr>
          <a:xfrm>
            <a:off x="628560" y="2025720"/>
            <a:ext cx="5100840" cy="3790800"/>
          </a:xfrm>
          <a:prstGeom prst="rect">
            <a:avLst/>
          </a:prstGeom>
          <a:ln w="0">
            <a:noFill/>
          </a:ln>
        </p:spPr>
      </p:pic>
      <p:sp>
        <p:nvSpPr>
          <p:cNvPr id="658" name="Rectangle 4"/>
          <p:cNvSpPr/>
          <p:nvPr/>
        </p:nvSpPr>
        <p:spPr>
          <a:xfrm>
            <a:off x="5797440" y="1762200"/>
            <a:ext cx="300204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Директорът на ТСБ – Югоизток връчи благодарствени писма на областния управител на област Сливен, на представителите на РУО - Сливен, на директорите на училищата и на представителите от отдел „Статистически изследвания - Сливен“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състващите получиха и рекламни материали на НС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28560" y="1090080"/>
            <a:ext cx="7886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77360" y="1635120"/>
            <a:ext cx="816300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На 11 май 2023 г. в сградата на Областна администрация Ямбол ТСБ - Югоизток организира тържествена церемония за връчване на грамоти на учениците от Езикова гимназия „Васил Карагьозов“ - гр. Ямбол, участвали в две от ежегодните статистически състезания, организирани от НСИ на територията на България, а именно: ЕОС за ученици 2022 - 2023 и Международния конкурс за статистически плакат 2022 - 2023, организиран от Международната асоциация за обучение по статистика и Международния статистически институт. Присъстваха г-н Георги Чалъков, областен управител на област Ямбол, г-н Стойко Стойков, началник на РУО - гр. Ямбол, г-жа Петя Деновска, старши експерт по математика в РУО- гр. Ямбол, г-н Йордан Милков, директор на ЕГ„В. Карагьозов“, ментори, ученици и представители на ТСБ - Югоизт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ационалния кръг на Шестата ЕОС от област Ямбол взеха участие седем отбора, всичките от ЕГ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„В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агьозов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“, гр. Ямбо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1090080"/>
            <a:ext cx="7886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504720" y="1932120"/>
            <a:ext cx="3726000" cy="32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тбор VELOCITY с ментор г-жа Величка Стоянова, се класира на Националния кръг и представи България на европейския фина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ниците от отбор VELOSITY при ЕГ, в състав Ирен Николова, Никол Андонова и Христина Койчева, с ментор Величка Стоянова, представиха пред аудиторията своята презентация на тема „Благосъстояни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1" descr="1586A901D-BCE0-4AE3-B11F-466CA23DF977"/>
          <p:cNvPicPr/>
          <p:nvPr/>
        </p:nvPicPr>
        <p:blipFill>
          <a:blip r:embed="rId1"/>
          <a:stretch/>
        </p:blipFill>
        <p:spPr>
          <a:xfrm>
            <a:off x="4400640" y="1932120"/>
            <a:ext cx="4265640" cy="32032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"/>
          <p:cNvSpPr/>
          <p:nvPr/>
        </p:nvSpPr>
        <p:spPr>
          <a:xfrm>
            <a:off x="-2341440" y="319320"/>
            <a:ext cx="138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Учениците от отб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VELOSITY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 при ЕГ, в състав Ирен Николова, Никол Андонова и Христина Койчева, с ментор Величка Стоянова, представи пред аудиторията своята презентация на тема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Μοντέρνα"/>
              </a:rPr>
              <a:t>„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Благосъстояние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Μοντέρνα"/>
              </a:rPr>
              <a:t>“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Μοντέρνα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1274400"/>
            <a:ext cx="788688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3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 м.септември 2023 година по покана на РУО - Ямбол началникът на ОСИ – Ямбол, г-жа Петя Станкова проведе среща с учители по математика, информационни технологии и информатика от Област Ямбол, като ги запозна с условията за участие в Европейската олимпиада по статистика, мотивиращите фактори и постигнатите успехи. В резултат се увеличи интереса на учителите и от други училища, които се включиха в организирания от НСИ семинар, а през следваща година се увеличи и броя на участващите в ЕОС училища от областта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 м. ноември по покана на г-жа Йонка Турлакова, учител по математика в ПТГ </a:t>
            </a:r>
            <a:r>
              <a:rPr b="0" lang="bg-BG" sz="19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ван Райнов</a:t>
            </a:r>
            <a:r>
              <a:rPr b="0" lang="bg-BG" sz="19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Ямбол, служители на ОСИ - Ямбол се срещнаха с ученици от 12 клас и беседваха за дейността на НСИ, приложението на статистиката в ежедневието, търсенето на данни от сайта на НСИ и ИНФОСТАТ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3480" y="1160640"/>
            <a:ext cx="7986600" cy="3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Calibri"/>
                <a:ea typeface="Calibri"/>
              </a:rPr>
              <a:t>Инициативи и постижения 2024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494320" y="1674360"/>
            <a:ext cx="323064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ез м. февруари 2024 г., в Университет „Проф. д-р Асен Златаров“, гр. Бургас ТСБ-Югоизток проведе практически семинар на тема: „НСИ като информационен партньор на бизнеса“. Семинарът бе  организиран от катедра „Икономика и управление“, Факултет по обществени науки, по инициатива на студентски клуб „Млад предприемач“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541440" y="1274760"/>
            <a:ext cx="8183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541440" y="1789200"/>
            <a:ext cx="4767120" cy="295884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2"/>
          <p:cNvSpPr/>
          <p:nvPr/>
        </p:nvSpPr>
        <p:spPr>
          <a:xfrm>
            <a:off x="477720" y="4862520"/>
            <a:ext cx="83646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Целта на семинара бе подобряване на практическата подготовка на студентите от специалност „Стопанско управление“ - бъдещи мениджъри и предприемачи, чрез повишаване на осведомеността им за статистиката като практика, запознаване с основните взаимодействия на бизнеса с НСИ, както и с възможността за кариерно развитие като държавен служите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1274400"/>
            <a:ext cx="788688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11120" y="1690560"/>
            <a:ext cx="81043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ез м. май 20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г., в сградата на Областна администрация Бургас, ТСБ - Югоизток организира тържествена церемония за връчване на благодарствени писма на участници в статистически състезания, а именно: „ЕОС за ученици 20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„Дейтатон 2023“, „Дейтатон 2024“ и „Конкурс за статистическо есе 2023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 събитието присъстваха проф. д.н. Мария Нейкова, областен управител на област Бургас, г- жа Петя Петрова, началник на РУО-Бургас, г-жа Мария Ценова, заместник-директор на Немска езикова гимназия „Гьоте“ - гр. Бургас, ментори, ученици, гости и представители на ТСБ - Югоиз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езентации представиха класиралият се на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първо място в първото статистическо състезание по Дейтатон отбор „МАТАТОН“ от ППМГ Акад. Никола Обрешков“, гр. Бургас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Елизавета Николаева от СУ „Иван Вазов“, гр. Поморие класирала се на първо място във втория конкурс за статистическо ес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528480" y="1728720"/>
            <a:ext cx="7886880" cy="39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4400" y="1029960"/>
            <a:ext cx="78868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Yeseva One"/>
                <a:ea typeface="Arial"/>
              </a:rPr>
              <a:t>Необходимост от ново изменение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1123920"/>
            <a:ext cx="788688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2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628560" y="1690200"/>
            <a:ext cx="7886880" cy="14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оф. д.н. Мария Нейкова поднесе благодарствени писма на общо 73 участници (в т.ч. ментори), обединени в 24 отбора от 5 учебни заведения и 2 общини от област Бургас, които са се класирали на втория национален кръг от Е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в двете издания на статистическото състезание „Дейтатон“ и на втория конкурс за статистическо ес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Picture 7" descr=""/>
          <p:cNvPicPr/>
          <p:nvPr/>
        </p:nvPicPr>
        <p:blipFill>
          <a:blip r:embed="rId1"/>
          <a:stretch/>
        </p:blipFill>
        <p:spPr>
          <a:xfrm>
            <a:off x="1006560" y="3187800"/>
            <a:ext cx="71308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360" y="1258920"/>
            <a:ext cx="79614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9" name="Content Placeholder 5" descr=""/>
          <p:cNvPicPr/>
          <p:nvPr/>
        </p:nvPicPr>
        <p:blipFill>
          <a:blip r:embed="rId1"/>
          <a:stretch/>
        </p:blipFill>
        <p:spPr>
          <a:xfrm rot="627600">
            <a:off x="4117680" y="2727360"/>
            <a:ext cx="4413240" cy="2568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C:\Users\pmpetrov\Downloads\20241018_132612.jpg"/>
          <p:cNvPicPr/>
          <p:nvPr/>
        </p:nvPicPr>
        <p:blipFill>
          <a:blip r:embed="rId2"/>
          <a:stretch/>
        </p:blipFill>
        <p:spPr>
          <a:xfrm rot="20371800">
            <a:off x="610920" y="2368080"/>
            <a:ext cx="3620880" cy="2140200"/>
          </a:xfrm>
          <a:prstGeom prst="rect">
            <a:avLst/>
          </a:prstGeom>
          <a:ln w="0">
            <a:noFill/>
          </a:ln>
        </p:spPr>
      </p:pic>
      <p:sp>
        <p:nvSpPr>
          <p:cNvPr id="681" name="Rectangle 2"/>
          <p:cNvSpPr/>
          <p:nvPr/>
        </p:nvSpPr>
        <p:spPr>
          <a:xfrm>
            <a:off x="704880" y="5075280"/>
            <a:ext cx="55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ез м. октомври 20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г., в сградата на Областна администрация Стара Загора, ТСБ - Югоизток организира тържествена церемония за връчване на благодарствени писма на участници от областта в ЕО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418680" y="1568520"/>
            <a:ext cx="82962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ъбитието присъстваха г-н Левент Палов и г-н Петко Карагитлиев, заместник-областни управители на област Стара Загора, г-н Антони Илиев, директор на Професионална гимназия по лека промишленост и туризъм в гр. Казанлък, г-жа Корнелия Владева, ментор на отборите от ПГЛПТв гр. Казанлък и представители на ТСБ - Югоизто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воите презентации представиха двата отбора от ПГЛПТ гр. Казанлък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татитийм 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“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татитийм 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119160" y="1674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5" descr="20241018_130352"/>
          <p:cNvPicPr/>
          <p:nvPr/>
        </p:nvPicPr>
        <p:blipFill>
          <a:blip r:embed="rId1"/>
          <a:stretch/>
        </p:blipFill>
        <p:spPr>
          <a:xfrm>
            <a:off x="1535040" y="3724200"/>
            <a:ext cx="55706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41440" y="1274760"/>
            <a:ext cx="8183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947520" y="1825200"/>
            <a:ext cx="756756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469800" y="2247840"/>
            <a:ext cx="8188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резултат на инициативите и допълнителната активност и настойчивост от страна на ръководния състав и на експертите на ТСБ – Югоизток, се увели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Броя на отборите, от училища на територията на ТСБ – Югоизток, участващи в Националния кръг на ЕОС от </a:t>
            </a:r>
            <a:r>
              <a:rPr b="1" lang="bg-BG" sz="1800" spc="-1" strike="noStrike">
                <a:solidFill>
                  <a:srgbClr val="2f5597"/>
                </a:solidFill>
                <a:latin typeface="Calibri"/>
              </a:rPr>
              <a:t>20</a:t>
            </a:r>
            <a:r>
              <a:rPr b="0" lang="bg-BG" sz="1800" spc="-1" strike="noStrike">
                <a:solidFill>
                  <a:srgbClr val="2f5597"/>
                </a:solidFill>
                <a:latin typeface="Calibri"/>
              </a:rPr>
              <a:t> през 2022/2023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bg-BG" sz="1800" spc="-1" strike="noStrike">
                <a:solidFill>
                  <a:srgbClr val="c00000"/>
                </a:solidFill>
                <a:latin typeface="Calibri"/>
              </a:rPr>
              <a:t>44</a:t>
            </a:r>
            <a:r>
              <a:rPr b="0" lang="bg-BG" sz="1800" spc="-1" strike="noStrike">
                <a:solidFill>
                  <a:srgbClr val="c00000"/>
                </a:solidFill>
                <a:latin typeface="Calibri"/>
              </a:rPr>
              <a:t> през 2023/2024 г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Броя на участниците от училища на територията на ТСБ – Югоизток, участващи в Националния кръг на ЕОС от </a:t>
            </a:r>
            <a:r>
              <a:rPr b="1" lang="bg-BG" sz="1800" spc="-1" strike="noStrike">
                <a:solidFill>
                  <a:srgbClr val="2f5597"/>
                </a:solidFill>
                <a:latin typeface="Calibri"/>
              </a:rPr>
              <a:t>46</a:t>
            </a:r>
            <a:r>
              <a:rPr b="0" lang="bg-BG" sz="1800" spc="-1" strike="noStrike">
                <a:solidFill>
                  <a:srgbClr val="2f5597"/>
                </a:solidFill>
                <a:latin typeface="Calibri"/>
              </a:rPr>
              <a:t> през 2022/2023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bg-BG" sz="1800" spc="-1" strike="noStrike">
                <a:solidFill>
                  <a:srgbClr val="c00000"/>
                </a:solidFill>
                <a:latin typeface="Calibri"/>
              </a:rPr>
              <a:t>103</a:t>
            </a:r>
            <a:r>
              <a:rPr b="0" lang="bg-BG" sz="1800" spc="-1" strike="noStrike">
                <a:solidFill>
                  <a:srgbClr val="c00000"/>
                </a:solidFill>
                <a:latin typeface="Calibri"/>
              </a:rPr>
              <a:t> през 2023/2024 годин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сички постижения на учениците и техните преподаватели, които се включват и активно участват в инициативите на НСИ са повод за гордост за нас и удовлетворение от постигнато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541440" y="1274760"/>
            <a:ext cx="8183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947520" y="1825200"/>
            <a:ext cx="7567560" cy="4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4 год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469800" y="2247840"/>
            <a:ext cx="8188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рамките на днешния форум бих искала да спомена и получен на 5 февруари 2024 г. имейл от г-жа  Петя Петрова, началник на РУО – Бургас, която посочва следното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Не мога да скрия задоволството си от факта, че партньорството ни доведе до тези резултат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Благодаря В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Ще потвърдя разбирането на РУО - Бургас за важността на инициативите в частта им подпомагане развитието на уменията на ученици/ учители за анализиране на информация и работа със статистически дан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Ще се радвам ако можем да обсъдим задълбочаване на партньорството ни с обучение за директори /зам. директори  за това как да се събират и обработват данни - полезни съвети и насок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2f5597"/>
                </a:solidFill>
                <a:latin typeface="Calibri"/>
              </a:rPr>
              <a:t>Оставам в очакван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612720" y="2930040"/>
            <a:ext cx="788688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Yeseva One"/>
                <a:ea typeface="Arial"/>
              </a:rPr>
              <a:t>БЛАГОДАРЯ ЗА ВНИМАНИЕТО!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536400" y="2599920"/>
            <a:ext cx="79711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7760" indent="-1677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Разширяването на инициативите за повишаване на статистическата грамотност и култура на младите хора е стратегическа цел, която е приоритет за НС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ри осъществяване на дейностите за изпълнение на тази цел    ТСБ - Югоизток ежегодно си взаимодейства с партньори от образователните и академичните среди, и медиите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67760" indent="-1677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Специална подкрепа на мероприятията, свързани с тези инициативи ни оказват и областните управители в областите Бургас, Сливен, Стара Загора и Ямбол, които отделят време и внимание за срещи и допълнително поощряване на младите хора, участващи в статистически изяв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1360" y="1438200"/>
            <a:ext cx="8013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Yeseva One"/>
                <a:ea typeface="Arial"/>
              </a:rPr>
              <a:t>Ролята на ТСБ – Югоизток при изпълнение на стратегическите цели за популяризиране на статистиката сред обществеността, особено сред младите хора – ученици и студенти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536400" y="2599920"/>
            <a:ext cx="797112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 инициатива на г-жа Д. Камбурова, началник на ОСИ – Бургас, в ТСБ – Югоизток, изготвихме анкета и със съдействието на РУО във всяка област, получихме информация от училищата, която обобщихме и  изпратихме до г-жа Антоанета Илкова, директор МСУП в НСИ.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11360" y="1438200"/>
            <a:ext cx="8013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Yeseva One"/>
                <a:ea typeface="Arial"/>
              </a:rPr>
              <a:t>Ролята на ТСБ – Югоизток при изпълнение на стратегическите цели за популяризиране на статистиката сред обществеността, особено сред младите хора – ученици и студент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0" name="Picture 3" descr=""/>
          <p:cNvPicPr/>
          <p:nvPr/>
        </p:nvPicPr>
        <p:blipFill>
          <a:blip r:embed="rId1"/>
          <a:stretch/>
        </p:blipFill>
        <p:spPr>
          <a:xfrm>
            <a:off x="711360" y="3741840"/>
            <a:ext cx="7796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561600" y="2147760"/>
            <a:ext cx="79455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2022 година беше много плодоносна за младите представители от училища в област Сливен, участващи в инициативите на НСИ и по конкретно за учениците от Професионална гимназия по икономика „Проф. д-р Димитър Табаков“, гр. Сливен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Сред 326 ученици от 129 отбора в Категория Б</a:t>
            </a:r>
            <a:r>
              <a:rPr b="1" lang="bg-BG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(ученици от VIII - IX клас) в Националния кръг на Петата европейска олимпиада по статистика, отбор „VETROGRAD“ се класира на призовото </a:t>
            </a:r>
            <a:r>
              <a:rPr b="1" lang="bg-BG" sz="2100" spc="-1" strike="noStrike">
                <a:solidFill>
                  <a:srgbClr val="000000"/>
                </a:solidFill>
                <a:latin typeface="Calibri"/>
              </a:rPr>
              <a:t>второ място в страната</a:t>
            </a: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. Това са: Алекс Георгиев и Димитър Добрев, с ментор г-жа Мариана Петрова. 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остигнатият успех беше основен фактор за последващата инициатива, предложена от гимназията за реализиране от ТСБ – Югоизток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11000" y="1438200"/>
            <a:ext cx="78865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620280" y="2004840"/>
            <a:ext cx="7767720" cy="34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 разрешението на доц. д-р Атанас Атанасов, Председател на НСИ, по повод Деня на европейската статистика - 20 октомври, ТСБ - Югоизток и ПГИ „Проф. д-р Димитър Табаков“ организираха и проведоха първото по рода си в страната статистическо състезание за инфографика на тема: 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„Статистиката е забавна. Официалните статистически данни - през погледа на учениците“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Calibri"/>
              </a:rPr>
              <a:t>Регламент</a:t>
            </a: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1. Цел на състезанието -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вишаване на функционалната грамотност и статистическата култура на учениците чрез провокиране на творческия им потенциал, развиване на умения за критично мислене, умения за работа с данни и тяхната визуализа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11000" y="1342800"/>
            <a:ext cx="788652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620640" y="1778040"/>
            <a:ext cx="78868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2. Условия на състезани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аво на участие в състезанието имаха всички ученици от VIII до XII клас от ПГИ „Проф. д-р Димитър Табаков“- гр. Сливен, разпределени в две възрастови категор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98960" indent="-165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Категория А – включва учениците от X, XI и XII клас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98960" indent="-165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Calibri"/>
              </a:rPr>
              <a:t>Категория Б – включва учениците от VIII и IX клас.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Учениците имаха на разположение 5 седмици (до 25 ноември 2022 г., вкл.) да изпратят своите инфографики на имейл 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itsliven2@abv.bg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роят на инфографиките, представени от един ученик не беше ограни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ямаше изискване за вида на използвания програмен продук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Единственото изискване беше инфографиките да са базирани на данни, които са публикувани на сайта на НСИ (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nsi.bg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11000" y="1266840"/>
            <a:ext cx="78865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620280" y="1836720"/>
            <a:ext cx="79772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Calibri"/>
              </a:rPr>
              <a:t>3. Критерии за оценяване –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стоверност; креативност; оригиналност; адекватност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Участниците трябваше да покажат знания и умения относно правилното разбиране, интерпретиране и представяне на данните във вид на инфографика, да използват аргументирано официална статистическа информация от: сайта на НСИ - 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nsi.bg</a:t>
            </a:r>
            <a:r>
              <a:rPr b="0" lang="bg-BG" sz="20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нфографиките се оценяваха от определено със заповед на Председателя на НСИ, шестчленно компетентно жури с Председател: проф. д-р Михаил Кончев, заместник - председател на Националния статистически инстит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калата на оценяване на отделна инфографика по всеки критерий, беше от 1 до 5 точки, като 5 бе най-високата оценка. Максималната обобщена оценка на журито за 1 инфографика беше 120 то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1000" y="125892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176040" y="1769760"/>
            <a:ext cx="38419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Общо от 53 ученика бяха представени и оценени 54 инфографики, като интерес са провокирали следните статистически рубр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емографска и социална статистика – 34 бро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изнес статистика – 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Околна среда и енергетика – 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Макроикономическа статистика –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Селско и горско стопанство – 3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анъчна статистика – 1 бр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11000" y="1258920"/>
            <a:ext cx="78865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Yeseva One"/>
                <a:ea typeface="Arial"/>
              </a:rPr>
              <a:t>Инициативи и постижения 2022 годи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3909960" y="1913040"/>
            <a:ext cx="4981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Dochka Kamburova</cp:lastModifiedBy>
  <dcterms:modified xsi:type="dcterms:W3CDTF">2024-12-13T12:14:49Z</dcterms:modified>
  <cp:revision>135</cp:revision>
  <dc:subject/>
  <dc:title>PowerPoint Presentation</dc:title>
</cp:coreProperties>
</file>